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808C-0798-4DF4-B7F1-50BA5BFF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E0C-B1F9-4125-8489-3E3C9EE3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051-75DA-4E18-B586-8755946B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579-1F52-4A82-A17E-A56D72F5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2E4-3EE5-4072-8952-5FCA3339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546-F2F5-44DB-B8D1-11980190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A95D-28EF-4C83-911A-A73DF298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A4F-C030-4F17-9C6F-A72903BE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FD7-AAF0-4E4B-9AFD-D9486979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1D4B-C390-40A0-8F75-2A888B92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F74-37D5-4110-AF8E-B6AF14C3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D23-ACE7-4DEB-B7A8-43267466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ABD6-4C86-49A4-86C7-C61403B109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136600" y="669960"/>
            <a:ext cx="46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2f5597"/>
                </a:solidFill>
                <a:uFillTx/>
                <a:latin typeface="Calibri"/>
              </a:rPr>
              <a:t>Вычисли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TextBox 2" descr=""/>
          <p:cNvPicPr/>
          <p:nvPr/>
        </p:nvPicPr>
        <p:blipFill>
          <a:blip r:embed="rId1"/>
          <a:stretch/>
        </p:blipFill>
        <p:spPr>
          <a:xfrm>
            <a:off x="1981080" y="3084480"/>
            <a:ext cx="2060640" cy="6955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2"/>
          <a:stretch/>
        </p:blipFill>
        <p:spPr>
          <a:xfrm>
            <a:off x="1736640" y="4511520"/>
            <a:ext cx="1970280" cy="6937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3"/>
          <a:stretch/>
        </p:blipFill>
        <p:spPr>
          <a:xfrm>
            <a:off x="4363920" y="3889440"/>
            <a:ext cx="2219400" cy="67608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4"/>
          <a:stretch/>
        </p:blipFill>
        <p:spPr>
          <a:xfrm>
            <a:off x="3938760" y="1609560"/>
            <a:ext cx="1949400" cy="67644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9" descr=""/>
          <p:cNvPicPr/>
          <p:nvPr/>
        </p:nvPicPr>
        <p:blipFill>
          <a:blip r:embed="rId5"/>
          <a:stretch/>
        </p:blipFill>
        <p:spPr>
          <a:xfrm>
            <a:off x="5078520" y="2743200"/>
            <a:ext cx="2485800" cy="6890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"/>
          <p:cNvPicPr/>
          <p:nvPr/>
        </p:nvPicPr>
        <p:blipFill>
          <a:blip r:embed="rId6"/>
          <a:stretch/>
        </p:blipFill>
        <p:spPr>
          <a:xfrm>
            <a:off x="7029360" y="2933640"/>
            <a:ext cx="1197000" cy="23497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"/>
          <p:cNvPicPr/>
          <p:nvPr/>
        </p:nvPicPr>
        <p:blipFill>
          <a:blip r:embed="rId7"/>
          <a:stretch/>
        </p:blipFill>
        <p:spPr>
          <a:xfrm>
            <a:off x="966960" y="460440"/>
            <a:ext cx="15462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8"/>
          <p:cNvSpPr/>
          <p:nvPr/>
        </p:nvSpPr>
        <p:spPr>
          <a:xfrm>
            <a:off x="1684440" y="696960"/>
            <a:ext cx="67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2f5597"/>
                </a:solidFill>
                <a:uFillTx/>
                <a:latin typeface="Calibri"/>
              </a:rPr>
              <a:t>Вычислите площади фигур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Группа 2"/>
          <p:cNvGrpSpPr/>
          <p:nvPr/>
        </p:nvGrpSpPr>
        <p:grpSpPr>
          <a:xfrm>
            <a:off x="1352520" y="2395440"/>
            <a:ext cx="2860560" cy="2673360"/>
            <a:chOff x="1352520" y="2395440"/>
            <a:chExt cx="2860560" cy="2673360"/>
          </a:xfrm>
        </p:grpSpPr>
        <p:sp>
          <p:nvSpPr>
            <p:cNvPr id="51" name="Прямоугольник 1"/>
            <p:cNvSpPr/>
            <p:nvPr/>
          </p:nvSpPr>
          <p:spPr>
            <a:xfrm>
              <a:off x="1352520" y="2715840"/>
              <a:ext cx="1141200" cy="235296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Прямоугольник 3"/>
            <p:cNvSpPr/>
            <p:nvPr/>
          </p:nvSpPr>
          <p:spPr>
            <a:xfrm>
              <a:off x="2493720" y="2711160"/>
              <a:ext cx="1152360" cy="118116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Прямоугольник 4"/>
            <p:cNvSpPr/>
            <p:nvPr/>
          </p:nvSpPr>
          <p:spPr>
            <a:xfrm>
              <a:off x="3646440" y="2395440"/>
              <a:ext cx="566640" cy="267336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>
            <a:off x="1589040" y="2362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2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797200" y="2362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2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3616200" y="204804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1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731880" y="3537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5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4213080" y="3544920"/>
            <a:ext cx="90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6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Группа 14"/>
          <p:cNvGrpSpPr/>
          <p:nvPr/>
        </p:nvGrpSpPr>
        <p:grpSpPr>
          <a:xfrm>
            <a:off x="5673600" y="2116080"/>
            <a:ext cx="2274840" cy="2952720"/>
            <a:chOff x="5673600" y="2116080"/>
            <a:chExt cx="2274840" cy="2952720"/>
          </a:xfrm>
        </p:grpSpPr>
        <p:sp>
          <p:nvSpPr>
            <p:cNvPr id="60" name="Прямоугольник 12"/>
            <p:cNvSpPr/>
            <p:nvPr/>
          </p:nvSpPr>
          <p:spPr>
            <a:xfrm>
              <a:off x="5673600" y="2116080"/>
              <a:ext cx="1120680" cy="2952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оугольник 13"/>
            <p:cNvSpPr/>
            <p:nvPr/>
          </p:nvSpPr>
          <p:spPr>
            <a:xfrm>
              <a:off x="6794280" y="2116080"/>
              <a:ext cx="1154160" cy="177660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TextBox 15"/>
          <p:cNvSpPr/>
          <p:nvPr/>
        </p:nvSpPr>
        <p:spPr>
          <a:xfrm>
            <a:off x="5889600" y="17478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2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6994440" y="17478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2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5051520" y="292104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6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7974000" y="29433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1:23:33Z</dcterms:created>
  <dc:creator>Anatol</dc:creator>
  <dc:description/>
  <dc:language>en-US</dc:language>
  <cp:lastModifiedBy>Пользователь Windows</cp:lastModifiedBy>
  <dcterms:modified xsi:type="dcterms:W3CDTF">2021-02-28T18:21:22Z</dcterms:modified>
  <cp:revision>102</cp:revision>
  <dc:subject/>
  <dc:title>Презентация PowerPoint</dc:title>
</cp:coreProperties>
</file>